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5C732-0A42-4C1C-B008-57151459B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D3C0E-5D32-495C-8B60-E3CE92B6B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68355-7D7C-4A53-9A15-6A6124861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50422-5779-4F63-A428-0D30AE642F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66E69-E68B-429F-A044-48E12C004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9E77E-98E8-4A03-9765-B1675771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C1635-481F-4890-89EA-AA626259C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B2EC-3D94-4F7E-8D1A-0B155126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50E81-B8EC-480F-899E-55B7CBE5C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A9760-06A7-426D-9C4D-09CE05898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45B80-9874-478A-9966-EF50ACE3B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186CA-CA7D-485E-87B2-5114EFBE4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49538-162F-4FF7-8264-02535601D86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overpopulation_89025[1].jpg"/>
          <p:cNvPicPr/>
          <p:nvPr/>
        </p:nvPicPr>
        <p:blipFill>
          <a:blip r:embed="rId1"/>
          <a:stretch/>
        </p:blipFill>
        <p:spPr>
          <a:xfrm>
            <a:off x="228600" y="533520"/>
            <a:ext cx="8675640" cy="5638680"/>
          </a:xfrm>
          <a:prstGeom prst="rect">
            <a:avLst/>
          </a:prstGeom>
          <a:ln w="0">
            <a:noFill/>
          </a:ln>
        </p:spPr>
      </p:pic>
      <p:sp>
        <p:nvSpPr>
          <p:cNvPr id="42" name="PlaceHolder 1"/>
          <p:cNvSpPr>
            <a:spLocks noGrp="1"/>
          </p:cNvSpPr>
          <p:nvPr>
            <p:ph type="title"/>
          </p:nvPr>
        </p:nvSpPr>
        <p:spPr>
          <a:xfrm>
            <a:off x="68580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verpopulation and poverty</a:t>
            </a:r>
            <a:endParaRPr b="0" lang="en-US" sz="4400" spc="-1" strike="noStrike">
              <a:solidFill>
                <a:srgbClr val="000000"/>
              </a:solidFill>
              <a:latin typeface="Calibri"/>
            </a:endParaRPr>
          </a:p>
        </p:txBody>
      </p:sp>
      <p:sp>
        <p:nvSpPr>
          <p:cNvPr id="43" name="PlaceHolder 2"/>
          <p:cNvSpPr>
            <a:spLocks noGrp="1"/>
          </p:cNvSpPr>
          <p:nvPr>
            <p:ph type="subTitle"/>
          </p:nvPr>
        </p:nvSpPr>
        <p:spPr>
          <a:xfrm>
            <a:off x="228600" y="44197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was it like befor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s it like today, and how will it be tomorr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bad</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the bad is that millions of children are starv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n through these problems, good has come out. Some things we never would’ve done without these problems developing have been done because of our eyes opening due to Overpopulation and Pov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00 Years ago</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 Between about 1 and2 hundred m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ual: Nearly ½ a billion peop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00 years later</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iction: 4 to 5 billion peo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ual: About 6.1 billion peop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rapid growth of people, in effect, made people more aware that we need to change the way we live in order for the Earth to support 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od and Bad</a:t>
            </a:r>
            <a:br>
              <a:rPr sz="4000"/>
            </a:br>
            <a:endParaRPr b="0" lang="en-US" sz="40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good news about overpopulation, is that people have become more aware, and have started organizations trying to make the way we live a better place for the Earth!</a:t>
            </a:r>
            <a:endParaRPr b="0" lang="en-US" sz="3200" spc="-1" strike="noStrike">
              <a:solidFill>
                <a:srgbClr val="000000"/>
              </a:solidFill>
              <a:latin typeface="Calibri"/>
            </a:endParaRPr>
          </a:p>
        </p:txBody>
      </p:sp>
      <p:pic>
        <p:nvPicPr>
          <p:cNvPr id="50" name="Picture 2" descr="C:\Users\Alicia Kredt\Desktop\smiling-planet-earth-cartoon-2-thum[1].jpg"/>
          <p:cNvPicPr/>
          <p:nvPr/>
        </p:nvPicPr>
        <p:blipFill>
          <a:blip r:embed="rId1"/>
          <a:stretch/>
        </p:blipFill>
        <p:spPr>
          <a:xfrm>
            <a:off x="3276720" y="3657600"/>
            <a:ext cx="3025800" cy="302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bad effects about overpopulation, is the environment issues, poverty, economy, human rights, and biodiversity. We have changed everything completely, and have turned it into a mess.</a:t>
            </a:r>
            <a:endParaRPr b="0" lang="en-US" sz="3200" spc="-1" strike="noStrike">
              <a:solidFill>
                <a:srgbClr val="000000"/>
              </a:solidFill>
              <a:latin typeface="Calibri"/>
            </a:endParaRPr>
          </a:p>
        </p:txBody>
      </p:sp>
      <p:pic>
        <p:nvPicPr>
          <p:cNvPr id="53" name="Picture 2" descr="C:\Users\Alicia Kredt\Desktop\sad-earth-dying-prev1192267964OZ6y2D[1].jpg"/>
          <p:cNvPicPr/>
          <p:nvPr/>
        </p:nvPicPr>
        <p:blipFill>
          <a:blip r:embed="rId1"/>
          <a:stretch/>
        </p:blipFill>
        <p:spPr>
          <a:xfrm>
            <a:off x="3276720" y="4191120"/>
            <a:ext cx="2336760" cy="243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pulation isn’t at all what it was like hundreds of years ago. Sure we have put down a lot of weight on our planet Earth, but now that the population is growing, we’re starting to realize that we need to shave off this weight from our Earth in order to st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verty</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even as the earth is growing more populous, we still have the increasing problem of pover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s</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just 1% of what the world spent on weapons was spent on education, every single person in the year 2000 could be educa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Good</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may think to yourself, “how can poverty be go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hing is completely bad. Poverty has brought many countries together to settle their many differences for a common goo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2:16:42Z</dcterms:created>
  <dc:creator>Alicia Kredt</dc:creator>
  <dc:description/>
  <dc:language>en-US</dc:language>
  <cp:lastModifiedBy>Son of Christine</cp:lastModifiedBy>
  <dcterms:modified xsi:type="dcterms:W3CDTF">2011-05-17T12:55:14Z</dcterms:modified>
  <cp:revision>5</cp:revision>
  <dc:subject/>
  <dc:title>Overpopulation and poverty</dc:title>
</cp:coreProperties>
</file>